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41389"/>
        <c:axId val="22528718"/>
      </c:barChart>
      <c:catAx>
        <c:axId val="612413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28718"/>
        <c:crosses val="autoZero"/>
        <c:auto val="1"/>
        <c:lblAlgn val="ctr"/>
        <c:lblOffset val="100"/>
        <c:noMultiLvlLbl val="0"/>
      </c:catAx>
      <c:valAx>
        <c:axId val="225287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413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F296-38DF-40EC-868D-A0E80D25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1243-6FAD-469B-9321-2FF57600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5D6-F0A1-4C40-9D8E-1722DB45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9144-AAF4-41DA-A0AE-EA5D5C26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60FB-67C2-48BE-8C13-D00AA19D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EF1B-E50D-4130-9AF1-615955AF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CC1-D904-498B-8A8B-F5B1297C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6C8E-4E96-417C-9FA8-59952EC9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2DD3-A028-4061-8542-7A03411D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B7B-0388-4BC8-B1D6-D2174369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ED8C-DC5A-42C6-936C-41E06A8C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4695-7D26-4630-9800-336C57CA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CB7C0-9651-4F67-AE4D-420281099E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