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37803"/>
        <c:axId val="76140027"/>
      </c:barChart>
      <c:catAx>
        <c:axId val="99637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40027"/>
        <c:crosses val="autoZero"/>
        <c:auto val="1"/>
        <c:lblAlgn val="ctr"/>
        <c:lblOffset val="100"/>
        <c:noMultiLvlLbl val="0"/>
      </c:catAx>
      <c:valAx>
        <c:axId val="76140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7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9F9-706C-4128-90C7-EE761016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880-0790-4B58-AEEB-1191B82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E0-9D2C-4359-89CC-2B408AB4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36A-2D2C-4C26-BF41-6AD80D76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EE3-9BCE-47F5-B75D-738C10F8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A8B-0CF6-4B88-BA3C-52BB797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434-8CC5-4B09-BA6F-FA4AD9F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491-7194-4420-95C3-2A8BBCA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6EF-C1DA-48BC-8C1D-CC265B3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73B-5B04-4F61-B9AF-A1E9841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EF4-BD54-4D1C-8DC4-760D004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0AE-F4A3-40E7-8148-4466A30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EF028-3967-41C7-8F17-76F77E9903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