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13379"/>
        <c:axId val="74434631"/>
      </c:barChart>
      <c:catAx>
        <c:axId val="373133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34631"/>
        <c:crosses val="autoZero"/>
        <c:auto val="1"/>
        <c:lblAlgn val="ctr"/>
        <c:lblOffset val="100"/>
        <c:noMultiLvlLbl val="0"/>
      </c:catAx>
      <c:valAx>
        <c:axId val="744346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133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FFFA-4A13-4497-9023-6D82F0B3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DBE9-1DC3-4402-99F0-089CA7B0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4EF9-9165-4E03-A023-D985B5EC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575-689F-4F4C-ABAD-93FFC3D9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25E-33EE-4AD7-8E4A-57ACB15F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01F9-C586-49E4-83F1-107E0B2D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91FB-1081-484F-A0E9-9D7A3B45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058-66DC-44C7-9190-173CEC59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0972-5982-4670-9F77-61951161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39C-15BC-4166-9817-21C381ED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D555-B80B-47AC-A99C-93B5FB2A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4E25-F735-44F4-B5FD-8C40530F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E0026-2D33-4F22-8AA9-84333DF8D1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