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402222"/>
        <c:axId val="847094"/>
      </c:barChart>
      <c:catAx>
        <c:axId val="82402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094"/>
        <c:crosses val="autoZero"/>
        <c:auto val="1"/>
        <c:lblAlgn val="ctr"/>
        <c:lblOffset val="100"/>
        <c:noMultiLvlLbl val="0"/>
      </c:catAx>
      <c:valAx>
        <c:axId val="8470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402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595E-0118-4224-9A7D-EDB90657D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88AB-B2B4-4EEF-A106-706ED1D0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1FFA-11E1-44EF-8EB4-EEB9A457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8856-3B4E-4AF1-A37C-30FA1009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22C9-E655-4846-A999-F308D5420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715-95A6-488B-983B-9E018F31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0014-B3E8-4273-9A56-73B105DC8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759B-2D40-4122-A6E1-3E6A38C97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0913-D4A5-4B74-B6A6-2E744F40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1403-C30A-44CD-9A8D-2E3E597D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7ACE-5868-46B7-979E-5AE743E6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0C76-502B-4047-AD94-E5142857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EBE78F-E7BD-4E37-8370-05288FDB57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