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79804"/>
        <c:axId val="76772879"/>
      </c:barChart>
      <c:catAx>
        <c:axId val="81079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72879"/>
        <c:crosses val="autoZero"/>
        <c:auto val="1"/>
        <c:lblAlgn val="ctr"/>
        <c:lblOffset val="100"/>
        <c:noMultiLvlLbl val="0"/>
      </c:catAx>
      <c:valAx>
        <c:axId val="76772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9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5FF-CC4E-4824-B4CE-C2326EBD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579-A8B5-4516-A694-A8CD6AF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C38-FD8A-466A-BAFD-FC2E833A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195-766C-4A56-AE9F-7479A002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A74-A2AB-4D71-A741-160D3C5E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2FD-A90A-4D91-8749-AD55D8BE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77F-2373-464F-8D32-C596A97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E1D-0829-4667-8A7C-D8583BD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CB2-11BC-4675-AD0D-EFC11D9E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764-C4A1-41E0-BC75-AB1D98D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E6E-5372-411A-923A-A52C2D9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8D5-8692-4897-B209-2FE823D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CAAA0-F8EF-4732-8EA3-885BA048E6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