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06307"/>
        <c:axId val="55733412"/>
      </c:barChart>
      <c:catAx>
        <c:axId val="73106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33412"/>
        <c:crosses val="autoZero"/>
        <c:auto val="1"/>
        <c:lblAlgn val="ctr"/>
        <c:lblOffset val="100"/>
        <c:noMultiLvlLbl val="0"/>
      </c:catAx>
      <c:valAx>
        <c:axId val="55733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06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EFE-9A1A-412C-87E2-AE014E7A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0DA-584B-4CBE-B148-C938D6AD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24C-1161-4CED-A1AE-BE60D33E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20F-139A-4096-BE08-FE3A3C15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CFF-A92F-4875-9033-48B7391A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34A-69F4-4586-93A7-CBF06CEF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8C8-CDC7-4ED1-B6AF-DF5166DD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04E-1ED0-44ED-ADD7-33954F23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F7A-FF73-4DC0-B034-6B6FA6A6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860-8BBB-42BB-A95F-53F9194E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981-83D0-4CE1-80DE-0C924E46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206-76CF-4B92-9C97-4D35BE76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5E7DC-1B3E-4C71-A419-11AE7C860E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