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11534"/>
        <c:axId val="38918844"/>
      </c:barChart>
      <c:catAx>
        <c:axId val="23911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18844"/>
        <c:crosses val="autoZero"/>
        <c:auto val="1"/>
        <c:lblAlgn val="ctr"/>
        <c:lblOffset val="100"/>
        <c:noMultiLvlLbl val="0"/>
      </c:catAx>
      <c:valAx>
        <c:axId val="38918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11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AD1-6EC4-4AFD-8B8C-4DED856F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97E-9521-4A92-8E00-E8D1A104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F6E-56B3-4040-84FC-0ED3876E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AF6-8CD0-4AA4-933F-408DD7E0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7C3-482A-4C19-B09F-6BF5ED2A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416-B080-46D9-B081-4A0D6E2F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F3D-6718-4F17-856D-C15A92AC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2F6-A035-48C6-B384-428774F5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B8B-6FC4-4BB0-BA7E-2FA34F0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8E0-0ADD-4CD8-9DB4-88440DD0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62E-35B8-434D-AB8F-6ED196B4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049-F7D6-4983-A078-7A100DEA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2CD07-6DD9-4C71-9D8A-C3038875DC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