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84372"/>
        <c:axId val="53502735"/>
      </c:barChart>
      <c:catAx>
        <c:axId val="92884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2735"/>
        <c:crosses val="autoZero"/>
        <c:auto val="1"/>
        <c:lblAlgn val="ctr"/>
        <c:lblOffset val="100"/>
        <c:noMultiLvlLbl val="0"/>
      </c:catAx>
      <c:valAx>
        <c:axId val="53502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84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8A6-FBBE-4514-A6E0-D3B93E40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2E8-0F7E-454E-BB50-B5E6EA49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919-5438-47C8-8566-EDB235F8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443-02B0-46BC-8AB2-2128B230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61C-0B10-4D38-B0E4-94353CB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C59-0EDD-4C68-A681-EAA077B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E09-4BD0-4838-8295-2BA92822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202-7C03-4A18-BD56-24A708A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D6E-977C-42FD-9001-0EC31D9B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119-8D4F-48BD-8D8A-CF63F86B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88A-0F58-41BE-8EF3-D427276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166-8EB9-4504-871A-035562C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14F55-A6D7-4553-82AA-E9F8409471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