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447398"/>
        <c:axId val="65371644"/>
      </c:barChart>
      <c:catAx>
        <c:axId val="874473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371644"/>
        <c:crosses val="autoZero"/>
        <c:auto val="1"/>
        <c:lblAlgn val="ctr"/>
        <c:lblOffset val="100"/>
        <c:noMultiLvlLbl val="0"/>
      </c:catAx>
      <c:valAx>
        <c:axId val="653716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4473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DA55-43EE-4E01-94E5-4B4EC3F00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8AC6-D5AF-49ED-A72B-4E1AD8991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B4AC-A4A2-4FC1-BB29-CDEF5306B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0345-CB52-40CE-911C-4B82D9D66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3B08-B8DB-45DB-BBB3-66F29FBBE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4092-86A0-42E8-9EB1-A316B4895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18FD-B785-42CD-9192-336673E88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C307-1C32-4227-B651-7DD35FE43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C97A-9ACF-4CEE-B27F-B4CE50517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AD0C-6BAD-4C15-9FBD-EBB043374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A1FC-533A-4A80-8004-E2DED92E9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D284-99C2-4FD2-9D52-01BAC7370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EEA244-7352-4140-A48D-8ABE8C8DF3A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