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958443"/>
        <c:axId val="37395329"/>
      </c:barChart>
      <c:catAx>
        <c:axId val="559584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95329"/>
        <c:crosses val="autoZero"/>
        <c:auto val="1"/>
        <c:lblAlgn val="ctr"/>
        <c:lblOffset val="100"/>
        <c:noMultiLvlLbl val="0"/>
      </c:catAx>
      <c:valAx>
        <c:axId val="373953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584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E97F-3938-4DE9-A0B7-5F3F9C6F9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EF3A-9D5E-4FE4-BCCC-093EAD88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2A88-73EB-45F9-9F57-1562491AE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53F8-1397-4E3A-AEFB-17EEBFD37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5233-C651-45A1-9ED6-61B81D0F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E96A-52D7-4792-9B11-1DE5383E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0299-1D43-4E43-9E37-A59E1327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02E6-F629-409C-A8A9-36233413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DDF0-741E-4C80-A113-1C89CEA9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71DA-8B88-4922-8E30-6E587DAC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E7C7-2731-495E-B234-22F871E9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DD18-57F3-4425-BECF-6DD6585A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6123E-96FB-4AEA-9239-AA33505E5A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