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75803"/>
        <c:axId val="63792907"/>
      </c:barChart>
      <c:catAx>
        <c:axId val="19275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92907"/>
        <c:crosses val="autoZero"/>
        <c:auto val="1"/>
        <c:lblAlgn val="ctr"/>
        <c:lblOffset val="100"/>
        <c:noMultiLvlLbl val="0"/>
      </c:catAx>
      <c:valAx>
        <c:axId val="63792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75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FB-D09B-4337-8D00-C0ADA3C8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6AA-F1AD-4EF2-B1FB-6E1FCC2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25-14FE-40DE-B1D4-B54352D3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8EC-FEE7-476B-9960-B9EB0E38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917-A572-4F2F-BD4B-838DD403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8EA-71B2-4B1B-AAEF-034F34B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1D7-D6C4-4B35-A7C2-EC2F33B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217-EDD3-42A2-9DCF-F1C06D7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919-F056-46B0-A49D-F5291ED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727-6929-45CB-A53C-7D40023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B47-FFDB-4D10-8BEF-5CC2595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63C-1507-4343-A84A-6A2CF3B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B8D0-A4CF-4D35-92EA-8DD26A5CB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