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57412"/>
        <c:axId val="5904887"/>
      </c:barChart>
      <c:catAx>
        <c:axId val="63257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887"/>
        <c:crosses val="autoZero"/>
        <c:auto val="1"/>
        <c:lblAlgn val="ctr"/>
        <c:lblOffset val="100"/>
        <c:noMultiLvlLbl val="0"/>
      </c:catAx>
      <c:valAx>
        <c:axId val="5904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57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0BC-5ABE-40A2-BBBD-F8FFFB69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D2D-551C-44E0-938C-2633B85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8C2-9575-41F1-80F2-C44503C3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328-A33A-4DFD-8DC1-D061ECBF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9FD-2E47-4A2D-BAF1-0056B0F7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FC4-AD88-420F-BBBB-64CE4470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C63-1192-4BF7-9A99-6944513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B1B-2C1C-4192-91E4-7FA3E9AA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782-F25F-4060-AE69-653A96E4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8C4-570D-4D0E-91E9-7102887A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96B-1EFC-44A4-94E1-5B9CD5CE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06B-F2E0-41CC-9D41-2403D7A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8ABC9-397D-48AC-BC8A-6D254C8B4D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