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49135"/>
        <c:axId val="55323120"/>
      </c:barChart>
      <c:catAx>
        <c:axId val="82249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23120"/>
        <c:crosses val="autoZero"/>
        <c:auto val="1"/>
        <c:lblAlgn val="ctr"/>
        <c:lblOffset val="100"/>
        <c:noMultiLvlLbl val="0"/>
      </c:catAx>
      <c:valAx>
        <c:axId val="55323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49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C3F-3518-4C93-8086-96B3FE6B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14C-1136-4DA2-A3EA-1F7960C1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A15-13AF-4588-A57B-E9C4ABD7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74D-9C4C-4E82-99E4-45BB19E2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7A8-9713-4248-9D19-03BE0B04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2E8-3889-44DA-9EC3-17AC48EA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22E-F258-4B32-8C4C-5C000603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82C-124B-43CD-B944-5C471D0D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BFA-FFD0-4780-A13A-4874D1F7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002-2D13-4013-B8FA-B37D6BC6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79B-F075-415B-92FB-15FBD5D3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631-BD48-49CF-BD99-6480AE86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52196-3261-4D82-BE37-D35A5009BF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