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35468"/>
        <c:axId val="63697317"/>
      </c:barChart>
      <c:catAx>
        <c:axId val="55435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7317"/>
        <c:crosses val="autoZero"/>
        <c:auto val="1"/>
        <c:lblAlgn val="ctr"/>
        <c:lblOffset val="100"/>
        <c:noMultiLvlLbl val="0"/>
      </c:catAx>
      <c:valAx>
        <c:axId val="63697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5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E13-48ED-48CB-AC2A-C137C8D3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E7E-650F-40E8-B0AE-A857043B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22B-62D3-4D44-A1EB-27C44B63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0BC-769E-443A-B366-8B1D2F8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FFC-E2D3-4DAB-A644-178C5825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FED-C774-4DC8-AFF9-F2A789DE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CA4-1045-4ED0-8AA6-684614F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05D-A2DE-4B5B-82D9-B98716D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A6B-9947-47FC-AB01-5490484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81D-50EF-443D-B3D2-9C002CF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B84-1371-4E08-BCA5-8C942A6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16E-0FBD-4DD1-A78C-D962CA4D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54C3F-C424-4BB9-8114-1BA664061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