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03446"/>
        <c:axId val="13972853"/>
      </c:barChart>
      <c:catAx>
        <c:axId val="6650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2853"/>
        <c:crosses val="autoZero"/>
        <c:auto val="1"/>
        <c:lblAlgn val="ctr"/>
        <c:lblOffset val="100"/>
        <c:noMultiLvlLbl val="0"/>
      </c:catAx>
      <c:valAx>
        <c:axId val="13972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93B-0EEA-46EC-96CE-EB9A66AB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03D-B8E6-45E6-88D8-4B724783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0FF-1F3A-4C17-9799-6C9A49CF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E03-CC72-41E5-9E5C-E9A00ECB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EEF-4BFB-4811-9ABD-5B19B22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170-0E7C-453F-8F5B-0E2F575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51B-CD6F-4AF9-8DA6-A2B77850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6F2-E398-4FB9-AD1A-A1759899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043-2B53-409E-B0B7-7632CDD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CB6-A5EE-4720-9D27-0935EC99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579-37A3-48B6-B93E-B11DA39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B7D-6B92-4A4C-97FC-42D821A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9048-ADE7-47A8-887C-77642CD44C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