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70735"/>
        <c:axId val="90207771"/>
      </c:barChart>
      <c:catAx>
        <c:axId val="58170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07771"/>
        <c:crosses val="autoZero"/>
        <c:auto val="1"/>
        <c:lblAlgn val="ctr"/>
        <c:lblOffset val="100"/>
        <c:noMultiLvlLbl val="0"/>
      </c:catAx>
      <c:valAx>
        <c:axId val="90207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70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C55-7E16-49F0-9406-FB63BF84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3D8-2866-4361-9ABB-F3CA797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69D-2140-44A5-ABA7-B4F6B7C7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39A-3AD3-408D-BB36-72113D1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DEC-EBCF-4727-8E46-2958276B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853-1C62-4EEE-99D0-55D1B2F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174-275B-49B9-81E9-7A1B902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CF8-C638-4A23-B8F7-3EB4CA3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427-4DB6-48BA-8081-E003542B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7AC-C10E-4A70-B01A-DDEA9A9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8BB-4661-40A4-8768-4F1B066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86F-9CE3-4B05-8057-EBD72F0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45D06-5BD3-4A04-893E-7A7534A14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