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11719"/>
        <c:axId val="66731173"/>
      </c:barChart>
      <c:catAx>
        <c:axId val="929117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31173"/>
        <c:crosses val="autoZero"/>
        <c:auto val="1"/>
        <c:lblAlgn val="ctr"/>
        <c:lblOffset val="100"/>
        <c:noMultiLvlLbl val="0"/>
      </c:catAx>
      <c:valAx>
        <c:axId val="667311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117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535-8B06-4AFA-9B88-F1F52020D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2BD-4BD8-4994-AE85-E5B781EC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9BD-7C29-40B2-9EC3-A133F78E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A629-F390-4339-AB15-693C1292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79C-78E2-435E-9A3B-A855D567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477-9AC5-40DA-AC73-51906DB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DA2-CD06-4F22-B537-E409D8C7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0C8-1819-4BD0-9AD1-F96F40F8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3B00-161E-43AC-9151-F539F286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37D-E438-4645-9E20-A23B844D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A66-43EF-4E00-801A-6492CBA0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85F-4224-4019-9CE2-264A67FC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A0E93-1FE3-453C-9E82-B33F320733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