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64910"/>
        <c:axId val="90646805"/>
      </c:barChart>
      <c:catAx>
        <c:axId val="14764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46805"/>
        <c:crosses val="autoZero"/>
        <c:auto val="1"/>
        <c:lblAlgn val="ctr"/>
        <c:lblOffset val="100"/>
        <c:noMultiLvlLbl val="0"/>
      </c:catAx>
      <c:valAx>
        <c:axId val="90646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64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7FA-8D33-457E-BD51-F6639A5F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6AB-FF58-4407-9F8A-7783951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799-8172-48E0-A49F-8615B779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583-6ECF-4E8E-8A83-3518BC32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AB0-7663-41E5-BDEC-E8AB77FE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F67-6525-4812-8936-0C5096C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374-2C27-4382-BF1B-B5644B2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940-0386-4DC0-8F9E-C2E78D8E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6B3-0178-40C4-9EA3-039CDA29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EDD-499C-4E59-8405-64D9E43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755-12F0-4EB3-9D77-BCC4630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D3E-088F-4398-B399-605F5F5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A603-3307-4293-BD92-5E17F0AEA0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