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205492"/>
        <c:axId val="41080783"/>
      </c:barChart>
      <c:catAx>
        <c:axId val="822054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080783"/>
        <c:crosses val="autoZero"/>
        <c:auto val="1"/>
        <c:lblAlgn val="ctr"/>
        <c:lblOffset val="100"/>
        <c:noMultiLvlLbl val="0"/>
      </c:catAx>
      <c:valAx>
        <c:axId val="410807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2054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9455-CCA2-470E-982B-F27C8CC32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0C96-737C-44F5-A148-17C62F16F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C9F7-26B8-409D-8C1C-74CB5F60C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4E22-F8CE-4D3A-8EF3-554DC153F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F357-F3D8-4176-9F3D-2AB36B16B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FE40-9CA3-4713-8CD5-AB5B3627C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A557-3364-4FEE-AEAD-AE1A1F78B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0D00-BE1B-4FF6-BDFA-DF6F8BE62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CD79-9C17-491B-81EF-F16A6836F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E584-050A-4875-92A8-39E5D7E4B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1C9F-658D-432D-AE7A-4395EE2A5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F6D4-A685-4F88-9F8D-24C6EC59F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92FC95-88A3-4527-A662-034B9950F9D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