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72795"/>
        <c:axId val="97249755"/>
      </c:barChart>
      <c:catAx>
        <c:axId val="45672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9755"/>
        <c:crosses val="autoZero"/>
        <c:auto val="1"/>
        <c:lblAlgn val="ctr"/>
        <c:lblOffset val="100"/>
        <c:noMultiLvlLbl val="0"/>
      </c:catAx>
      <c:valAx>
        <c:axId val="97249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2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D79-89C2-43A0-9E6F-1DC9BB93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73D-8154-4437-8C87-1D62067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901-2624-4C06-80B9-77CB8308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DB9-658F-47E4-B5DA-73AAF778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705-786F-420E-A0A5-B496DF34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BBD-28CF-43CF-B022-5FABEA3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ADA-0D63-49F0-A3DD-96C83A2C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E0F-6B51-41DF-8F63-A93BE18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FF9-2A34-45AC-97A4-847F30E1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673-B4FC-4D04-893A-123C2571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7E9-9008-40E0-9D8F-D9B129A7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FD6-A1CE-49D4-905B-0413C927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E2348-7056-4B6C-ACBD-074C69145C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