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30909"/>
        <c:axId val="34669054"/>
      </c:barChart>
      <c:catAx>
        <c:axId val="73430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9054"/>
        <c:crosses val="autoZero"/>
        <c:auto val="1"/>
        <c:lblAlgn val="ctr"/>
        <c:lblOffset val="100"/>
        <c:noMultiLvlLbl val="0"/>
      </c:catAx>
      <c:valAx>
        <c:axId val="34669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0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921B-381A-421A-B565-0E3CD649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010-A3F2-4E0E-ABA3-A48811F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754-1873-415B-9221-2B93D873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544-E2F7-4F63-8D79-F3BD16F1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7C2-DD6E-41AF-967B-FF43DBC9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CD6-F01D-407A-B888-CBC01317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14A-DD91-43E7-8430-452652D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158-1787-4BF2-A0B6-B9AE74A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540-790E-4918-A05D-220AA8C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ABE-9CEB-4371-AD74-16FE7964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A63-84A5-4E30-8BFE-98E75D6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617-003E-40A0-8068-9FC9355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CC251-F23B-452A-81EB-8456CACA1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