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32118"/>
        <c:axId val="31822916"/>
      </c:barChart>
      <c:catAx>
        <c:axId val="36432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22916"/>
        <c:crosses val="autoZero"/>
        <c:auto val="1"/>
        <c:lblAlgn val="ctr"/>
        <c:lblOffset val="100"/>
        <c:noMultiLvlLbl val="0"/>
      </c:catAx>
      <c:valAx>
        <c:axId val="31822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32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FAB-432C-400E-93BA-3D69A7CC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E5E-E7B4-44DE-8E04-D86AA234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11A-D570-4871-95D7-D947782D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B74-6DFB-49A0-81D0-C3E716EF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0CF-7980-4085-B07B-05052AD4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AD6-FD99-4401-B4A7-65A88FA6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124-352E-4C0E-923F-6E381163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C0E-98AA-4A01-BBDF-0F965A8B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3F6-BAF0-4C36-9502-38058F59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96F-419D-4C4D-AED6-C603403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571-CC91-41C5-AED5-2F31DCCB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620-2364-44E1-8EF1-87089E52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3732C-ACC8-47C0-8E4F-C83E0ED69D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