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14877"/>
        <c:axId val="16798244"/>
      </c:barChart>
      <c:catAx>
        <c:axId val="93414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98244"/>
        <c:crosses val="autoZero"/>
        <c:auto val="1"/>
        <c:lblAlgn val="ctr"/>
        <c:lblOffset val="100"/>
        <c:noMultiLvlLbl val="0"/>
      </c:catAx>
      <c:valAx>
        <c:axId val="16798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14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22B-B110-41D8-8E07-770637C0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8BA-5C99-4435-A601-24E083C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475-8E91-43B0-8CEF-EA213B0F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7FE-C0D3-4FAF-9FCC-AFC49284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095-EE20-4969-93C3-1CFDF464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DE7-01BF-4E64-8EC0-3A2DC0E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D34-D519-4C96-8E52-31EBD957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56B-0A8B-4374-A409-D4BE918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5C1-1A00-48B1-902B-A6622C9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059-BB4B-49C9-BDFE-E7E5616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D6B-C936-47EF-B2BB-894662B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FAD-8265-4ABE-871A-C9C55159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8F95C-18AE-4AFA-A90A-5658E0D1D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