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556947"/>
        <c:axId val="2186551"/>
      </c:barChart>
      <c:catAx>
        <c:axId val="305569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86551"/>
        <c:crosses val="autoZero"/>
        <c:auto val="1"/>
        <c:lblAlgn val="ctr"/>
        <c:lblOffset val="100"/>
        <c:noMultiLvlLbl val="0"/>
      </c:catAx>
      <c:valAx>
        <c:axId val="21865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5569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54A8-3983-4936-AFAD-F43479351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5A77-DD03-43F7-A46A-E2EDDA4D7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EB49-4CAD-4B39-87F7-B0D7F11FA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7614-46C5-4924-879E-A881D65D4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6583-D26B-4E74-A388-E80B3B3A2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BEB2-717A-4358-8066-E8838FF57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5E51-C4BB-4F11-9D8B-32578869A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86D9-AB5D-4657-BEC5-6DD86E781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4715-6760-4233-B0DC-0064D297E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0191-92FC-4EF8-8278-C6E8536F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F381-85E1-487A-B086-045B9016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8BA6-0EA4-4E98-B0A5-00CB345D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09CB49-8226-4E3A-872E-0AE42362521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