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27383"/>
        <c:axId val="30768277"/>
      </c:barChart>
      <c:catAx>
        <c:axId val="35527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8277"/>
        <c:crosses val="autoZero"/>
        <c:auto val="1"/>
        <c:lblAlgn val="ctr"/>
        <c:lblOffset val="100"/>
        <c:noMultiLvlLbl val="0"/>
      </c:catAx>
      <c:valAx>
        <c:axId val="30768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27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16A-2E77-41CB-A705-795BF18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CCE-838C-4BBF-B7E8-29958A2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933-CC85-4A76-BC9F-C6CD5B92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DEE-067F-4084-A1FC-FAF6A78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615-B201-4B3B-8B34-29F09C36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DFE-1E08-447F-9213-A061B40E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8E8-0B6A-40F4-B50B-7A3CF87D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EAB-0582-4499-9AAC-90960C06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10E-CA23-4E86-932D-664D687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9DB-51CD-4469-8185-DC334C4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40D-C21D-42C3-AC3F-9C9B4C2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3E8-9103-46B5-BE9D-E1D408B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25479-6A2A-446A-9142-174DEA6C13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