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24180"/>
        <c:axId val="49286020"/>
      </c:barChart>
      <c:catAx>
        <c:axId val="89124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86020"/>
        <c:crosses val="autoZero"/>
        <c:auto val="1"/>
        <c:lblAlgn val="ctr"/>
        <c:lblOffset val="100"/>
        <c:noMultiLvlLbl val="0"/>
      </c:catAx>
      <c:valAx>
        <c:axId val="49286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24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FFA-B3D9-4E22-9134-6073E57E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6BF-868A-4157-9AD0-97988ED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D13-BF58-4FC6-BD14-FB393974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B19-0A40-4181-8DDD-2DDB26A5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B0B-94D6-4139-A188-8779C4DB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C24-3031-4BB7-82D0-AF45277E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A96-2B0B-4773-AEF3-8031FF47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80D-68EC-49C8-A78E-31694E20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440-44EC-4412-A8F2-6652FC07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639-9E53-4F7D-BCD5-2076360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B7E-EB91-4F23-9C60-CB6095E7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60A-9092-4F49-BED1-FB75941E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C706-25AA-4A37-B236-CA80C0FF69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