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20161"/>
        <c:axId val="60209362"/>
      </c:barChart>
      <c:catAx>
        <c:axId val="68920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09362"/>
        <c:crosses val="autoZero"/>
        <c:auto val="1"/>
        <c:lblAlgn val="ctr"/>
        <c:lblOffset val="100"/>
        <c:noMultiLvlLbl val="0"/>
      </c:catAx>
      <c:valAx>
        <c:axId val="60209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20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DD8-CF91-419C-8436-DECD7752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57D-4B6C-470B-A6DF-E5976699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EB0-6DA5-4ECA-84B6-13CDD6B6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351-3B9E-43F3-B460-77AEB162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E99-CB7C-40BF-ADFE-2E30C176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DB5-F582-406E-9729-D31001E4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FFC-154E-4856-80D6-0DB1DA44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F45-C2F8-48B1-ACBD-E5B7D8DC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1FDC-E2A0-4180-829C-65BD7E97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CB7-E670-4810-AD98-26BC14EA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B16-0CF8-4492-A464-FA0A1033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49E-0CBC-4627-91DD-4F12CE0D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17AE7-001F-432B-BD58-DE12A5415F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