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57065"/>
        <c:axId val="17608369"/>
      </c:barChart>
      <c:catAx>
        <c:axId val="60257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8369"/>
        <c:crosses val="autoZero"/>
        <c:auto val="1"/>
        <c:lblAlgn val="ctr"/>
        <c:lblOffset val="100"/>
        <c:noMultiLvlLbl val="0"/>
      </c:catAx>
      <c:valAx>
        <c:axId val="17608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7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CBB-DCFC-4680-BBCD-94FE866A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753-0EC5-4368-B9A3-8BBD7EFF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61F-D8BC-46F1-B9E4-71590489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F78-D959-4A59-98C5-EAC3DCAC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2C6-4C0B-420D-95ED-0D99CC9F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6BE-0F88-43D7-8741-5D8507A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95B-9B64-4DAC-845C-DAA26CCD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FD0-6508-4D91-9AC8-488AF6CF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168-06A7-4FF7-B874-785D4555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64B-EF3A-4D0B-98AB-5FCB5773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77E-9159-4E90-898E-230363E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D58-009B-4EE0-99B1-6010448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928EA-B7D7-484B-B64C-60962BA32F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