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37897"/>
        <c:axId val="29975631"/>
      </c:barChart>
      <c:catAx>
        <c:axId val="10237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5631"/>
        <c:crosses val="autoZero"/>
        <c:auto val="1"/>
        <c:lblAlgn val="ctr"/>
        <c:lblOffset val="100"/>
        <c:noMultiLvlLbl val="0"/>
      </c:catAx>
      <c:valAx>
        <c:axId val="29975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37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E21-E633-4C0B-9816-1B878B8C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B44-B03A-420F-B6BD-1A84503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DAC-C98F-4F81-897D-1E774CFB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378-76D9-482F-81C1-302CA49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CA8-4B75-43E0-877A-EB38D83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5BC-9401-4D80-A0F1-E0E7E0E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6BE-1B51-41B1-A471-1B68E17D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15D-6A52-4E73-9B67-244452F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92F-5F68-48D1-BC63-3E7A19D3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F8C-7D75-4F8B-9D82-078635B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F3F-904A-46B5-AC7C-AD8049D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350-8C2A-472B-BEF0-A44A5F6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FB8C-59BE-4E76-97D4-355EBA78B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