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38903"/>
        <c:axId val="470418"/>
      </c:barChart>
      <c:catAx>
        <c:axId val="39238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418"/>
        <c:crosses val="autoZero"/>
        <c:auto val="1"/>
        <c:lblAlgn val="ctr"/>
        <c:lblOffset val="100"/>
        <c:noMultiLvlLbl val="0"/>
      </c:catAx>
      <c:valAx>
        <c:axId val="470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38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56E-B790-4AFD-975B-06D03A38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890-0B51-4F04-AAB2-D7EEA86D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17B-BF96-4753-B7FD-D562EA19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2FD-4E85-4B91-8A88-5CE6EFBC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ADD-A109-4C0B-9DC1-8A48FC96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D5C-8F14-4A39-B4C4-F8AB3B1D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DBC-2B65-4F23-A2EB-A4D50F73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710-BC25-4834-B918-153EFD64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4F9-718F-4A87-A3F2-C1BB7E5C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157-C73D-4108-9B38-D5AA66DB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D8B-5230-4095-AC42-35A114B7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D42-BF13-469C-9DCC-657B7CEF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F9411-7D3A-4F16-B54A-6681CA3DC2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