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46250"/>
        <c:axId val="99641275"/>
      </c:barChart>
      <c:catAx>
        <c:axId val="40946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1275"/>
        <c:crosses val="autoZero"/>
        <c:auto val="1"/>
        <c:lblAlgn val="ctr"/>
        <c:lblOffset val="100"/>
        <c:noMultiLvlLbl val="0"/>
      </c:catAx>
      <c:valAx>
        <c:axId val="99641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46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1AF-4FAA-4FE6-9840-FFF7912C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C0A-01BB-4BD8-987C-84DCE03B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0F3-8099-4741-83E3-ED67602F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8DA-8AC1-4410-A1A7-7D01ACF2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F06-78E7-49D1-B1B9-8C1E561E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CF0-1185-41C6-B0F0-D3CA6808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40A-E72D-4922-A616-7B29A483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4A7-AE7B-48DA-9D53-31428100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65C-8E20-43B3-BA6C-D31F4E34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9DE-E370-42D1-9E79-1F4D985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44A-E943-48CB-A685-7B3F1FCF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350-9563-4D85-A771-295E69BA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D3FF3-C189-4BB6-9662-10E074E340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