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32520"/>
        <c:axId val="54003059"/>
      </c:barChart>
      <c:catAx>
        <c:axId val="89832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03059"/>
        <c:crosses val="autoZero"/>
        <c:auto val="1"/>
        <c:lblAlgn val="ctr"/>
        <c:lblOffset val="100"/>
        <c:noMultiLvlLbl val="0"/>
      </c:catAx>
      <c:valAx>
        <c:axId val="54003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32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1D8-7AEA-4B52-B56E-BF928E97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EA5-F657-44D9-9B26-8E9B0897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855-80F4-450D-A034-5B40FECE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431-847F-4AE8-A96E-7DAB3559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A53-201C-4D3D-BD4B-A145A4EB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46B-13B6-411B-9E90-DB5A48A3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641-BA41-442E-BB83-51B800DE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533-0875-49CC-973A-D5CBAC35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904-14F6-45A0-AFF2-52EF7C9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3C9-AE4B-497B-BA1B-D92C50C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BC7-D70F-4F81-A5F4-C70CAA5F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AA6-5DAC-4F72-8736-98517B19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3E9DB-5C42-47F1-AC3D-E99E78E3CF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