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7115233"/>
        <c:axId val="90524721"/>
      </c:barChart>
      <c:catAx>
        <c:axId val="4711523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524721"/>
        <c:crosses val="autoZero"/>
        <c:auto val="1"/>
        <c:lblAlgn val="ctr"/>
        <c:lblOffset val="100"/>
        <c:noMultiLvlLbl val="0"/>
      </c:catAx>
      <c:valAx>
        <c:axId val="9052472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11523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BA264-932D-428A-86ED-8F236D8A0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77EEC-F29F-42CF-9FA0-024BC34F5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CFD71-286B-40F6-8AEA-7346134BC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09860-22FD-41AF-91D2-3B65A12D1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309E9-59AE-4BDB-B414-3B470D710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5D2AD-B16E-4BEB-8E9C-493C7B775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35D1D-E490-448F-9586-FB6423CD7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C060C-BE1F-4EFD-AE07-DDA014453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1A1C8-097E-422A-99E5-E5E16C3EA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2A320-AEE6-4C43-98DD-1E88E06C0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638DF-0BA1-46E1-9861-F6279A5B3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22085-8FE1-422D-87F3-A832B1A57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1A86C6-1A91-45BA-9E27-127873C1721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