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20768"/>
        <c:axId val="18895677"/>
      </c:barChart>
      <c:catAx>
        <c:axId val="47220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5677"/>
        <c:crosses val="autoZero"/>
        <c:auto val="1"/>
        <c:lblAlgn val="ctr"/>
        <c:lblOffset val="100"/>
        <c:noMultiLvlLbl val="0"/>
      </c:catAx>
      <c:valAx>
        <c:axId val="18895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20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ACE-0154-438F-BD24-E5F34CA8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DCD-FD49-4BC3-AC77-81F3576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A3E-529D-4407-B2CB-C994F23F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F5D-D784-42C6-8E60-53141E59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490-38F7-4236-9EED-EC0F8F0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F4E-EC88-41E9-A314-7814A4E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8EF-E3CD-4D24-A520-9F85000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A78-88AE-4B48-84DB-C7AF97E0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0AF-B02F-4F1E-BE29-1AA2163F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761-6977-4CEF-89BD-571B1E5C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D1C-FD89-480F-9A44-366C1EB3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539-68ED-4049-99D0-CCEF6463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AAE26-7134-4725-843D-9BA36623E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