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41204"/>
        <c:axId val="71148079"/>
      </c:barChart>
      <c:catAx>
        <c:axId val="23141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48079"/>
        <c:crosses val="autoZero"/>
        <c:auto val="1"/>
        <c:lblAlgn val="ctr"/>
        <c:lblOffset val="100"/>
        <c:noMultiLvlLbl val="0"/>
      </c:catAx>
      <c:valAx>
        <c:axId val="71148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41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23E-BE97-4F3B-808E-06F60F83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FAE-5C53-4C02-A001-CAD24AA5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D6F-272A-4ADC-A629-1A2A0C47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BDF-0621-453D-A0E4-BD3BED42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468-1194-4CA0-8C94-EB998CF4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BE7-F87C-4974-88AD-5F726D7A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B92-ED0E-4A80-B6C3-C731E138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1FF-DF8E-445A-9056-DED68391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548-525F-4A0C-927B-523E0ED5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62C-6974-4420-B505-C355472C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38E-F8BC-447B-BC30-E2245B0F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7A5-9C72-40DB-BEFE-A8F65BA5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78947-B4A6-4559-8684-CFF577F0F7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