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09650"/>
        <c:axId val="42491612"/>
      </c:barChart>
      <c:catAx>
        <c:axId val="81109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91612"/>
        <c:crosses val="autoZero"/>
        <c:auto val="1"/>
        <c:lblAlgn val="ctr"/>
        <c:lblOffset val="100"/>
        <c:noMultiLvlLbl val="0"/>
      </c:catAx>
      <c:valAx>
        <c:axId val="42491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09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492-920D-4A76-B1E7-59406C68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392-C39C-4472-9AA8-C8DDD3BD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8B8-8955-4BEE-B8BF-7AD27B88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0CE-74F6-4F92-A1BE-1F0FD135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134-1F2C-40A3-A78E-58CB417E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FBC-201A-45A4-9933-D939FEE0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98C-C709-4A01-9503-B2DAF4DF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26B-503A-4B90-9EFB-5FA1ED97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7CE-02DE-4FFB-B8B4-34F2889A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7E0-D752-4B39-B461-99A49360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D63-30F9-4CC0-BBD7-E422604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E59-09EE-4BBB-9055-2DD63D1A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B8FA3-9ED4-4B82-8461-552FA25C8B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